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3F4-E18D-4DCF-97CC-063627CE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63F-30D3-497A-AA27-DD6131E4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0F1-8E23-46AA-A4F0-6F32F123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7BBB-D787-458F-A671-8EA64827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E6C4C-5201-4ED5-A3E5-9AC32935E31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8C313-442B-4ADB-B3C7-88831FE9258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1A963-DD14-4A2C-BE34-1998855A99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0B5D7-F245-4147-9443-00CB968BB94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BF672-2577-42B3-8DC5-398FB17855A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05754-1918-4E65-9ED2-AF47F0A61DE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65835-2F9C-4989-ACEE-E7375A06C8C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0075B-D3D7-41B2-A889-20F1010FBD8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9D80F-A28C-416D-8494-5CF796B6F12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73956-4A82-454E-B447-A0F3F24FBD5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1D184-6985-4D44-816B-B9C1DD6F5C8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19DE0-0DE1-4D71-8BFD-82A7B7BC45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BE6-DC57-4AD0-AAB7-0DDE0DED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43F-46B3-4201-8713-47391775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4CC-6B55-4DA9-BFB4-5F3F8B87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11A-95E9-4771-85FC-ECBB4097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3AC-D4B5-4B8C-B3D0-80D12F93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3E2-B400-48B5-83CA-F17A1C9F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20D-D0A9-4079-A55F-057557C9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C98-88BC-4018-912B-4B01BC2F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D21E-61D4-4B59-9653-BC3D2D208DE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3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BE96-B3C9-4D47-915A-BAD992EB108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2"/>
          <p:cNvSpPr/>
          <p:nvPr/>
        </p:nvSpPr>
        <p:spPr>
          <a:xfrm>
            <a:off x="0" y="45720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b7dee8"/>
                </a:solidFill>
                <a:latin typeface="Calibri"/>
              </a:rPr>
              <a:t>Chapter 6 – Deviance and Social Control: Sickos, Perverts, Freaks, and Folks Like Us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68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ional Choice Theor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Control Theory,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ollow norms, we conform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controls: voices within that tell us when a behavior is acceptable or unaccep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rnal controls: society’s formal or informal controls against deviant behavi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control occurs when we derive more benefit from conformity than devi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533520" y="137160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 and Meso-Level Explanations of Dev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 Functionalist Theories: focus on anomie and s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 Theories: focus on social inequality and power strugg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1996920" y="88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-Functionalist Theory of Dev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ly, deviance helps society becau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s examples of unacceptable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urages behavior necessary to maintain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ds people together through common rejection of deviant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work for those who deal with devi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als social problems that need to be addressed and thereby creates positiv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s society to creative new ways of thin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-Functionalist Theory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mie and social disorganization can cause abnormally high levels of devi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mie: a breakdown of norms caused by lack of shared, achievable goals or lack of socially approved means of achieving those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mie is likely in conditions of rapid urbanization, war, or economic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091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-Functionalist Theory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in: another source of devi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in: frustration resulting from gap between socially shared goals and access to legitimate methods of achieving those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in causes some people to turn to deviant ways of achieving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80880" y="12189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83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-Functionalist Theory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8320" indent="-3283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in: five ways of adapting (Mert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0280" indent="-27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ormity: embracing society's goals and adhering to approved means of achieving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0280" indent="-27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novation: using illicit means to reach approved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0280" indent="-27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tualism: strict adherence to social rules, but with no hope of achieving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0280" indent="-27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reatism: giving up on both the goals and the me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0280" indent="-27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bellion: rejecting socially approved goals and means and replacing them with alternative goals and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8320" indent="-328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iance: retreatism, rebellion, inno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320" indent="-328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8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94760" cy="480060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335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Theory of Devi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iance results from power struggles between socially unequal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tes use deviance to maintain contr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have the power to define as deviant activities and groups that threaten their interests or n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duce crime and deviance, we must alter the structure of society, making it more eq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Multilevel Analysis of Deviance: Feminist Theo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men are often victimized or defined as deviant due to secondary social statu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w status results from structures such as the gendered division of labor, separation of public and private spheres, and socialized gender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men are less often in a position to commit crimes, and women’s crimes differ from men’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ltural attitudes toward crime against women differ based on the status of women in the socie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rime and Individu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33160" y="15238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Crime and individuals: Micro-level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crime is th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icult to estimate because not all crime is reported to pol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me levels and trends are examined using rates per 100,000 individ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multiple methods of measuring cr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Devian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iance: the violation of social n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stics of devi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iance is socially constru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s may be deviant in one time and place but not in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roup or status may be defined as dev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rime and Individu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68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rime is measur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form Crime Reports - FB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I crimes: murder, rape, robber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II crimes: fraud, simple assault, vandalism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reported criminal participation surv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reported victimization surv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method has flaws; triangulation of data leads to the most accurat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6840" y="1371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atory or street crime: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mes against individuals or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ctimless or public order crimes: criminal acts committed by or between consenting ad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 crimes: not everyone agrees acts ought to be criminal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te crimes: criminal offenses motivated by the offender’s bias against a particular social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te crimes are committed on the basis of religion, ethnicity or race, national origin, gender, and sexual orientation and are often under-repor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rime and Organiz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mes involving organizations &amp;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zed crime: on-going criminal enterprises that aim to obtain personal economic gain through illegitimate me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erarchically organized; rely on violence, corru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inent in societies undergoing transition and/or anomie, and among marginalized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include sale of illegal goods and services; infiltrating legitimate businesses; extor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national organized crime takes place across borders and is an increasing prob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rime and Organiz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6840" y="1294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es involving organizations &amp; instit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 or white-collar crime: violation of the law committed by an individual or group in the course of legitimate, respected occupational or financial activity (medical fraud-Medicare and Medic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s of occupational crim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mes against companies (employee thef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mes against employees (wage thef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mes against consu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mes against the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ational &amp; Global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Macro-Level Analysi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National &amp; Global Cr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rorism: premeditated, politically motivated violence against noncombatant targets by subnational groups or clandestine agents, usually intended to influence an aud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be domestic or inter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many types of terrorist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 organized crime: criminal acts committed by government offic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, complicity in smuggling, assassination, torture, eavesdropping, accepting bribes, corru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45720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ational &amp; Global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68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national comparis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me rates vary across societies due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cultural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, different levels of stigma, or disapproval attached to disobeying laws and norms (Jap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levels &amp; causes of economic ine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income inequality increases, so does cr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tions in overall economic heal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ational &amp; Global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5080" indent="-325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Crim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Crime: acts that violate international laws, treaties, and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2720" indent="-270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crimes involving transnational conglomerates that smuggle illegal goods, or nations that violate environmental agre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ld systems theory: sees the cause of global crime as economic inequality and competition between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2720" indent="-270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ism has increased inequality between core and periphery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2720" indent="-270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iphery nations may resort to unconventional means to meet their go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Controlling Crime: Policy Considerat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533520" y="13712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riminal Justice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-functionalist perspective: the justice system is important for maintaining order in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y should focus on deterring devi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 perspective: the justice system supports the powerful by depicting crime as a threat from poor people and minor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y should focus on the injustices of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80880" y="12949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5080" indent="-325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sons and Jai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tal institutions: completely control prisoners’ lives and regulate all their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mates’ lives are changed throug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2720" indent="-270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gradation: marks inmate as devia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2720" indent="-270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tification: breaks down inmate’s original self as he/she experiences resocializ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igid social systems develop within pris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ails as “catchall” asylums for the poor, marginaliz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.S. incarceration rates have increased due to “get tough” polic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Controlling Crime: Policy Considerat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omparative Incarceration R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4832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Crime: Deviance that Violates the Law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ime: deviance that violates laws and is punished with formal penal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w: a type of norm that reflects opinions about what is considered right and wrong in a particular societ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ensus crimes: members of society agree about the seriousness of the deviant 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flict crimes: members of society disagree about the seriousness of the acts, and/or the law disadvantages a particular grou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urposes of pris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the functional perspective, prisons serve many purpos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venge or retrib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oving dangerous people from socie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ren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habili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ever, the recidivism rate is hig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than half of all men who do time in prison will be confined again for a crim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ggests deterrence and rehabilitation functions are not working very we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Controlling Crime: Policy Considerat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sons and Pro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sons can be a source of jobs for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prisons are now operated by for-profit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tizations of prisons has grown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its are found through inmate la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Controlling Crime: Policy Considerat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456840" y="13716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ath Penalty (or Capital Punish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st controversial method of contr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ommon argument for the death penalty is that it deters others from committing cr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ies suggest this is not the case; however, the death penalty does serve as retrib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ath penalty is most common in Asia, the Middle East, and parts of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evidence that the death penalty is race and class bi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yland became the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 in 2013 to abolish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Controlling Crime: Policy Considerat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2f2"/>
                </a:solidFill>
                <a:latin typeface="Calibri"/>
              </a:rPr>
              <a:t>What Causes Deviant Behavior:</a:t>
            </a:r>
            <a:br>
              <a:rPr sz="3400"/>
            </a:br>
            <a:r>
              <a:rPr b="0" lang="en-US" sz="34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480" y="1371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Explanations of Devianc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ist Theories: focus on relationships and mean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nal Choice Theories: focus on individual choices, costs, and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094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ic Interactionist Theories of Dev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on how others shape one’s definition of what is normal and accep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e how society defines some acts as devi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e deviance-related symbols and how they affect the 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ic Interactionist Theor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ial Association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es on how we learn deviant and criminal behavior from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associating with others who engage in crime and have criminal value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learn how to commit cr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minal behavior is reinfor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sibility of becoming deviant depends on duration, intensity, priority, and frequency of time spent with deviant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ymbolic Interactionist Theori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beling Theor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ividuals and behavior become deviant because they are labeled as such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ies define behaviors as deviant and impose san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rima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isolated) deviance—actors are not labeled devi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econda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ongoing) deviance—actors are label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ing labeled reinforces deviant behavi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iance becomes a self-fulfilling prophe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ose with less power and status are more likely to be labeled as deviant (link to conflict theor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ional Choice Theories of Dev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make choices about deviance based on costs and benefits to themsel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sanctions: rewards (benefits) for socially approved behavi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ative sanctions: punishments (costs) for breaking social n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control occurs when costs of deviance are higher than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nishment should impose high costs for criminal behavior, as a deter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68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ional Choice Theor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Control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nds encourage us to adhere to n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are bonded to society in 4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ttach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mit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conventional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activities that keep them bu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elie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the social rules of their cul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3:57:51Z</dcterms:created>
  <dc:creator>Deborah J Barr</dc:creator>
  <dc:description/>
  <dc:language>en-US</dc:language>
  <cp:lastModifiedBy>nmainardi</cp:lastModifiedBy>
  <dcterms:modified xsi:type="dcterms:W3CDTF">2015-06-01T20:30:19Z</dcterms:modified>
  <cp:revision>80</cp:revision>
  <dc:subject/>
  <dc:title>Chapter 6: Deviance and Social Control:</dc:title>
</cp:coreProperties>
</file>