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C40C-DE06-498A-AC85-3979520FB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18BD-3169-46E0-B29D-3214E1B29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5487-9589-4986-9695-3B4DFB04A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043F-6BD8-4FEC-9201-31C7C710F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0E2D-A921-44BF-B38A-42FACA447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B58E-3461-4B94-9C79-FB76C3103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3E96-03D4-4782-B27E-EA3282FD8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120C-A770-4399-96A0-5BF2A829D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4244-5430-4D98-9269-3679A73FC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7D2F-E035-457E-8DDF-1BD991A15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80CF-4FB9-4AE8-931A-4D1780796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44C1-EBA3-4620-AD60-20A35B187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B672-3A86-4F8C-BE9A-2F7A0CA50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4D4C-953F-45BE-9E7F-2C18B5DED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AF5E-79BF-4882-BD57-E08C20513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09F3-2B41-4B7F-A397-FF8755843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FC2A-81BF-4D09-946C-C2A6EA0F6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D0DF-0F57-458B-8ED9-B78494BCC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306F-C246-424B-8699-8600BAF61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F926-E9B0-4A37-9C15-42C056A86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9939-DE0A-4FFE-8C2C-6265F5C1C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34C2-C889-4EB5-8EDA-8A56A800B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A7FF-2185-49F6-BE74-19E8CA27E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4A51-1107-484C-982F-58E7657D7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EC7B-A7DD-483A-BB09-6DF9F2479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1F8F-7A4B-4286-9EB0-BA1AA79BB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124-E804-498C-BA11-D310D92C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5F5-6BF4-4326-AAEF-DA33BE8D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34B-E54B-4D0C-9BEC-F4C3C85C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D67-018E-4F1D-A675-6F27224B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E66-8EB0-4A60-B70A-9E897CCF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C4D-FE0C-4C39-8CCC-53D72EC6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9D2-348F-41E9-85D2-22CB94D6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AA2-5230-4597-9281-4F320D38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AFC-0D1E-4BBC-95CA-1F1B7996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211-B6C8-40DD-9522-E934F7DB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7F7-3616-45E2-959E-B4E39AA9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077-9D87-4FC8-BFB0-860D83A9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3B82-061F-4497-84A8-27DD4438A4A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0" y="43434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dee8"/>
                </a:solidFill>
                <a:latin typeface="Calibri"/>
              </a:rPr>
              <a:t>Chapter 5: Interaction, Groups, and Organizations: Connections That Wor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eraction: 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09480" y="152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ic Interac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es on how people interpret interactions and manipulate others’ interpre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93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Dramatu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eraction: 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2189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ic Interac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matur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zes interaction as if it were a staged play with audiences, parts, scripts, props, and set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perform different parts for different audi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learn parts and scripts through so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ession management”: we attempt to convey a positive, advantageous image of oursel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nt stage” behavior: public, scripted, presents an image we hope others will take as r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 stage” behavior: we relax, let feelings s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Status: The Link to Gro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5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statuses: positions that individuals hold in the social worl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uses define how we interact with oth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on differs according to whether participants are of equal or unequal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 set: an individual’s combination of stat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ribed status: a status that is assigned at birth and does not change during an individual’s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d status: a status that is chosen or earned by decisions one makes or by personal 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ter status: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’s most important status, that takes precedence over other stat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943680" cy="510516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Status: The Link to Gro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The Relationship Between Status and Ro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880" y="1371240"/>
            <a:ext cx="83822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8240" indent="-318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s: the expected behaviors, rights and obligations associated with a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315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e behaviors are part of our culture, learned through so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315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es and statuses link us to others in the social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315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ations for a particular status depend on the statuses of those the individual is interacting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es can be formal or inf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es connect us to meso- and macro-level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ole Strain and Role Confli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80520" y="137160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strain: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nsion between roles within one stat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conflict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between the roles of two or more stat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3943440" y="1295280"/>
            <a:ext cx="4841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roups: The Micro-Meso Conn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335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: two or more people who interact with each other because of shared interests, goals, experiences, and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 have a sense of belo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hip is well-def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rules for members’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Not all collections of people are groups!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form through a series of ste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 inte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ergence of a collective g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mpts to expand collective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The Importance of Groups for the Individua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33520" y="137160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kheim’s Study of Suic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ed how groups impact individual behavior by comparing different groups’ suicide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conditions leading to suici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oistic suicide  – bonds tying individuals to the group are too w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mic suicide – the group lacks norms or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ruistic suicide – bonds tying individuals to the group are too st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Gro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33520" y="15238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mary group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ose, personal relationshi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se of belonging, caring, identity, loyal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 influence on behavi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mall membership, lasting relationshi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intrinsic value: belonging is the go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724280" y="15238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ary group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al, impersonal, businesslike relationshi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ist to accomplish a task or go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alized tasks and  commun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membership; may be short or long-ter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Gro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09120" y="15998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 group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act as role models for one another and establish standards against which members measure their cond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-group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feel a sense of loyalty and belonging; often a reference and/or a primary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-group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that exists in competition with or opposition to an in-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etworks &amp; Conn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1040" indent="-311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networks: sets of relationships between individuals, groups, and/or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1040" indent="-3110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, meso-, and macro-level network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iends and 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civic, sports, and religious organiz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umni groups, political parties, subcul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ent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040" indent="-3110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ay the Internet influences our net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6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40840" cy="48006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Organization and Bureaucra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2f2f2"/>
                </a:solidFill>
                <a:latin typeface="Calibri"/>
              </a:rPr>
              <a:t>Modern Organizations and Their Evolution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rn organizations: formal, rational, bureaucratic; originated during industrialization in the 1700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organizations: complex secondary groups formed to pursue and achieve certain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ionality: the attempt to reach maximum ef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reaucracy: a specific type of large, formal organization that attempts to maximize efficiency by establishing formal relations, clear procedures, and stated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ntrast: traditional organizations are run on the basis of custom or whi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The Evolution of Modern Organiza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37160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Donaldization of society: increasing dominance of organizations characteriz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maximized by sam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ictability, nothing left to ch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ulation of every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control over customers and employ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McDonaldization lead to dehumaniz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haracteristics of Bureaucr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684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x Web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ied growth of bureaucracy in the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ed “ideal types,” or conceptual mod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al type bureaucracy characteristic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ision of labor based on technical compet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rative hierarch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rules and regul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ersonal relation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phasis on rationality and effici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sion of life-long care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reaucracies also have an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nformal structur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unwritten rules and relationshi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ssues in Bureaucra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3520" y="1523520"/>
            <a:ext cx="81532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s of bureaucra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enation: workers with boring, dead-end jobs feel uninvolved, uncommitted, unapprec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ligarchy: concentration of power in a small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ron law of oligarc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al displacement: original purposes are displaced by new, secondary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Macro-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2360" indent="-342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&amp; Global Networ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2360" indent="-3423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transportation and communication systems, including the internet, are generating global networ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2360" indent="-3423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national corporations make their own rules, without oversight bodi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Profit, efficiency, and calculability are highly priz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360" indent="-3423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ional and international organizations are governed through rational, bureaucratic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284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groups rebel against these structures, resulting in global confl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etworks &amp; Conn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5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tworks connect us to society and place us within larger social struct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tworks can create opportunities for their members, but also generate obligations that limit members’ freed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ividuals’ access to networks differs by their gender and other characteris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fferences in access to opportunity-enhancing networks are one reason for persistent ine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Process of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interaction consists of two or more individuals purposefully relating to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 creates micro-level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interaction has three compon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on g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ocial context governed by n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ction, goal, and context help us interpret the meaning of the inte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Elements of Social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35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assume that others will share their interpretations of a 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d interpretations include situational norms, which create cues for appropriat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(verbal and non-verb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 norms and expectations are learned through soc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Elements of Social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 includes verbal and non-verbal 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n-verbal communic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s using facial expressions, the head, eye contact, body posture, gestures, touch, walk, status symbols, and personal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verbal communication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ly specif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ed through so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in all cul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Elements of Social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316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al space: an example of non-verbal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personal space people need varies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con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al space communicates social 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in higher positions have greater control of physical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 dif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Elements of Social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33520" y="12952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egories of Social Distance in the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imate 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0-18 inch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vate and affectionate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ersonal 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18 inches-4 fe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iends and acquain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cial 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4-12 fe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ersonal business re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ublic 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12 feet or m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speaking, especially in formal settings or with high-status spea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eraction: 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533160" y="12952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y (or Exchange The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ships are formed and maintained based on individual rewards and cos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teraction is sustained when its benefits are high and costs are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that our choices about intera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based on calculations of self-interest (current or eventual payof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guided by rea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 expectations of reciprocity (individual contributions will balance out over ti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20:14:11Z</dcterms:created>
  <dc:creator>Deborah J Barr</dc:creator>
  <dc:description/>
  <dc:language>en-US</dc:language>
  <cp:lastModifiedBy>nmainardi</cp:lastModifiedBy>
  <dcterms:modified xsi:type="dcterms:W3CDTF">2015-06-01T19:04:09Z</dcterms:modified>
  <cp:revision>63</cp:revision>
  <dc:subject/>
  <dc:title>Chapter 5: Interaction, Groups, and Organizations: Connections that Work</dc:title>
</cp:coreProperties>
</file>