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2FD3-2A76-4E05-A759-DB224F032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CCD8-5CFC-4F18-A7E2-7C7D190B7C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A5C8-447C-4A58-8DC1-CC482068BF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D13C-9C64-469E-9B97-75DAF00815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C634-82E7-4923-B4F6-0067923D36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0CC5-72FE-40DD-8F03-619653E670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BBA9-9EC8-48FA-BA7E-408C978034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5E9-16D7-4086-ADB6-13C87EEBB1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4A1E-3278-4B73-8D30-F49E54F628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B88A-1911-49C2-98B5-F736957A52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CDA7-99B0-4CC5-832E-30B02F5E1E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526E-3927-4375-B943-E77E9B4167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7CAB-C319-400C-872E-7F59037F46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C4A7-91C3-4345-8A74-D370757C2D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B478-0F69-4DDC-8070-5072548730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0900-EF3E-4B3F-BE72-3E87F2AE92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93CF-695C-435A-A36C-4C864C0EE2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7D0C-6C1E-4934-B1A4-49E46C2469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A5AB-3BFC-410D-9D8E-5F61B3543F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CFF-A2AB-4FEC-B567-2625F0CD52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2F2-22B1-4DD3-8321-A02284BB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AE5-4F7A-489A-BD7E-C27EF356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F85-4481-4894-922C-C3BEE18E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BCB-34F1-4568-8B70-89436B2B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F56E9-856A-413A-861D-41D7F811354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29582-B4EC-4583-956A-0A81D5CE6C5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D8F3C-A60B-4CC0-9196-77D42F72DA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CDBA6-6186-4A13-9B32-57AEEF9E665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6FC4-745E-4DBA-8A8B-D0FB4970756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71B26-2857-43D2-BD83-798EAC52BDE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F3C24-29BE-46E6-879F-62FE90975E6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F98AA-3194-4584-A194-488B1588BF5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370B6-FF85-4F4C-B9DF-23FE56FAE94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6E770-A217-454C-B426-A764285CFBD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5CC81-C41A-4410-9F04-1D89A52DA27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7DEBE-1BD5-445E-BD16-BF245B314F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296-6059-443F-8FB1-037FAD7E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349-3815-4325-B5DA-E60B8071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28D-D021-44A7-A897-FC7F7A92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529-ADB5-450E-9667-5990825D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03C-3B77-42C5-8F1F-CDE0F7EA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ABB-4DB7-44B3-B106-FA1B9610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E61-572C-45AC-821B-D26109E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EDF-7A35-46BB-9ECC-4F1ABA3D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F95D-D7CE-47F2-912B-5D3FC3267D9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4672-E87E-45C5-B4D7-2EA4521F0C7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2"/>
          <p:cNvSpPr/>
          <p:nvPr/>
        </p:nvSpPr>
        <p:spPr>
          <a:xfrm>
            <a:off x="0" y="441972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4: Socialization: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Becoming Human and Human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arts of the Sel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68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d’s Parts of the Sel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I”: spontaneous, unpredictable, impulsive, acts without considering social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me”: the reflexive part of the self, formed through role-taking, that knows the rules of society and attempts to control and direct the “I” into socially acceptabl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me” requires the ability to take the role of others, anticipating others’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Stages in the Development of the Self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d’s Stages of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itation: child observes and imitates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: children play at taking the roles of significant others, but do not understand complex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: children take the roles of multiple others concurrently &amp; the role of the generalized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 other: a composite of social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behavior comes to be governed by abstract rules, children can enter into novel social are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The Self and Connections to the Meso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1295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8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Iowa School of Symbolic Interac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sense of self is rooted in our positions within social organizations and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evelop a relatively stabl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re sel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or sense of who we are regardless of immediate setting, based on our most important social pos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have a vested interest in the preservation of the organizations and institutions that contribute to our social positions and sense of 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ization Throughout the Life Cyc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648320" y="1295280"/>
            <a:ext cx="3962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tes of passage occur at most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323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tes of passage: public celebrations or recognitions of passage from one status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323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t because they impact others’ perceptions, self-perceptions, and expectations of the 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0880" y="12949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ization occurs throughout lif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h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ult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 Adult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irement, the Elderl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ing and D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Process of Re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cialization: the process of abandoning one or more social positions in favor of others that are more suitable for a newly acquired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cialization may occur in a total institution, in which people are isolated from the outside world and lead bureaucratically regimented l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Agents of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s of socialization: people, organizations, and institutions that enable us to learn the beliefs, values, and behaviors of our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-level: family, peer group, local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-level: educational, religious institutions; me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: socialization is stated goal (e.g., the famil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: socialization isn’t a stated goal but occurs anyway (e.g., the med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s of socialization shift over the life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agents’ messages may concur or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Families: Micro-Level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331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milies use positive and negative sanctions to help teach children right and wro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umber and type of sanctions shape the socialization process and the se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mily socialization differs b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l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cul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umber of children in the household and birth 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Class: Meso-Level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3352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1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class: the wealth, power, and prestige rankings individuals hold in socie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480" indent="-3214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class and socialization: Parents socialize children to meet expectations of the social class into which they are bo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31860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ddle class: autonomy, creativity, self-dir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31860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ing class: rule-following, respect autho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1480" indent="-3214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ss socialization in the family impacts later socialization in sch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2f2f2"/>
                </a:solidFill>
                <a:latin typeface="Calibri"/>
              </a:rPr>
              <a:t>Electronic Media: Meso-Level Socializ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33520" y="16761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media as socialization agents: television, computers, internet, DVDs, video games,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8 % of homes have computer and intern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5 % of teens own cellph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who control the mass media can influence socialization within the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messages do these agents of socialization send to childr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impact of children spending more time with media and less time with caregivers and pe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ocialization is radicalizing young 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2f2f2"/>
                </a:solidFill>
                <a:latin typeface="Calibri"/>
              </a:rPr>
              <a:t>Electronic Media: Meso-Level Socializ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ization: the lifelong process of learning to become a member of the social world, including learning the values and beliefs of our cul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action: the basic building block of socialization, through which a child is shaped into a human being and becomes a member of  a socie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self: the perceptions we have of who we 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ization and Macro-Level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ization in a globalized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nationalism: the situation of individuals or families who have national loyalty to more than one country, often a result of mi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result in multiple and conflicting messages about appropriate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communications and ev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lead us to interact with diverse others, or solidify feelings of “we” vs. “the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ure vs. Nur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e vs. nurture debat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ch best explains the human self and human behavior—biology or socialization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e argu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obiology (evolutionary psychology): claims our genes “wire” us for social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urture argu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obiology is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ductioni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behaviors vary, are not hard-w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ization is more important than ge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Importance of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need human contact, affection, and interaction in order to fully devel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: Cases of isolate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nna, Isabelle, neglected orph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se children were not socialized at the proper time, they experienced developmental disorders and could not be fully integrated into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ization &amp; The Social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activities are part of the socialization experien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cro-level: e.g., parents, peer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o-level: e.g., schools, religious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cro-level: e.g., national advertis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importance of socializ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 are dependent upon socialized people to help them surv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ck of adequate socialization increases the likelihood of deviant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ization &amp; The Social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pectives on Soci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lev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c Interactionism: the development of the 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o- and Macro-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-functionalist perspective: various socializing agents support one another and society as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perspective: various socializing agents have conflict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se in power ensure that others are socialized into supporting power structures which benefit e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individuals have little power to decide their fu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Development of the Self: Micr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0880" y="14475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f: the perceptions we have of who we are, derived from our perceptions of the way others respond to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velopment of the self allows us to interact with others and function in the social wor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are not born with a self; its development begins in infa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ology and society both contribute to the development of the 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elf, our ability to be aware of ourselves as individuals, may be distinctive to hum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Looking Glass Sel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ymbolic interactionist theory of the self developed by Charles H. Coo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oking glass: “Each to each a looking-g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2720">
              <a:tabLst>
                <a:tab algn="l" pos="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cts the other that doth pas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buClr>
                <a:srgbClr val="000000"/>
              </a:buClr>
              <a:buFont typeface="Arial"/>
              <a:buChar char="•"/>
              <a:tabLst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Cooley, the looking-glass self is a reflective process that develops the self based on our interpretations and on our internalization of the reactions of oth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2720">
              <a:tabLst>
                <a:tab algn="l" pos="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2720">
              <a:tabLst>
                <a:tab algn="l" pos="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ole-Ta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t theory of the sel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rge Herbert M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ourselves through interaction with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can symbolically recognize objects, we can the view the self as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having a name allows us to see ourselves as objects separate from other objects; the difference between “me” and “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xive behavior: ability to view oneself from the outside, as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2:04:57Z</dcterms:created>
  <dc:creator>Deborah J Barr</dc:creator>
  <dc:description/>
  <dc:language>en-US</dc:language>
  <cp:lastModifiedBy>nmainardi</cp:lastModifiedBy>
  <dcterms:modified xsi:type="dcterms:W3CDTF">2015-06-01T18:40:14Z</dcterms:modified>
  <cp:revision>54</cp:revision>
  <dc:subject/>
  <dc:title>Chapter 4: Socialization:</dc:title>
</cp:coreProperties>
</file>