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69F-9AB5-4C72-BA2F-DB3BAB81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C63-8502-4ED8-856D-8D1D1917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69E-6FC5-4590-A24C-A7D4457E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ECD-262C-4B8E-801D-B17F3304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E94-2007-4AF2-87C9-65D42442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6DA-22BF-4C15-9F54-DDCC756D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D98-F3A5-49A0-9640-10D2D2B2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F30-7F22-42C2-98DB-021DE3E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8B1-86F7-42B4-934B-D4E40AFA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3A2-B7AB-431D-B3A8-9022DE5F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173-43E4-467F-9A2A-2C0F76C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1EA-568B-40E2-A43C-9406AAB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3A2-8828-4BFD-9278-E0C2ECA5C38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3: Society and Culture: Hardware and Software of Our Social Worl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33520" y="12193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industrial or information soc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technological revolution”: comp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d reliance on automated 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ift from manufacturing to information and service jo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 workforce with high levels of technical and professional 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class inequalities based on 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ientific and creative problem-sol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conomic and technological globa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e: Th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s and material objects passed on from one generation to the next in a society, which provide guidelines for action and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knowledge, beliefs, values, rules and laws, language, customs, symbols, and material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e: Th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09120" y="13712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s of cul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one shares a culture with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evolves and adapts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reation of culture is ongoing and cumul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ansmission of culture separates humans from other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Ethnocentrism &amp; Cultural 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nocentrism: the tendency to view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own group and its cultural expectations as right, proper, and superior to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U.S. foreign relations illustrate how ethnocentrism can produce hos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al relativism: setting aside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own cultural beliefs and prejudices in order to understand another group through the eyes of its own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3520" y="14475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culture: All the objects we can see or touch that are made by humans; the artifacts of a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material culture: Invisible or intangible aspects of a group’s culture, including its values, beliefs, norms or rules, and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e: Th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440" y="2514600"/>
            <a:ext cx="3817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0400" indent="-320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al cul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400" indent="-32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s, values, and beliefs that are considered most desirable and consciously taught to new members of socie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40040" y="2514600"/>
            <a:ext cx="3817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al cul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s, values, and beliefs that reflect how things in society are actually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1752480" y="18288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material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3316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s are shared judgments about what is desirable or undesirable, right or wrong, good or b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the basic ideas of a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come a “creed” if they gain the power of religious doct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taken for gra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may arise between groups with different valu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lief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fs are ideas we hold about life, how society works, and where we fit int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e from traditions, religious teachings, experiences, lessons from parents &amp;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 the choices we 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based on values, which are broader, more abstract notions of what is desi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295280"/>
            <a:ext cx="79246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s are rules of behavior shared by members of a society and rooted in the society’s value system. They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kways: desirable but not strictly enfor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s: observed by most, great moral signific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oos: prohibit actions; very strong pena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ws: formally encoded, violation seen as deserving of formal punish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316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s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an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behaviors that reinforce norms through rewards and pena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sa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ative 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sa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n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ative in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uctures that organize group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s and material objects that provide meanings and guidelines for li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 and culture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er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Culture and Socie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is the use of symbols to convey meaning, objects, or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undation of every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s three for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ver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53352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ke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nds symbolize objects o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nds have similar meaning for all members of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te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s symbolize objects o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societies to store information for fu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es communication over di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verbal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stures, facial expressions, body postures symbolize objects o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37720" y="182844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influences perception and 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nguistic relativity the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sits that people who speak a specific language make interpretations of their reality based on that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1371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 operates at every level of the social worl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2514600"/>
            <a:ext cx="9118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6212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crocul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fluence only a small segment of individuals’ lives or a limited period of thei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culture of a group smaller than a nation but large enough to sustain people through the life s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s its own unique elements with those of the dominant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ys a continuous role in members’ l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believe in rightness of subcul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have sense of “we,” as opposed to “they” (outsid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533160" y="12952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untercult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group with expectations and values that contrast with the values of the dominant society (i.e. Anti-Govt “Patriot” grou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27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ercultures wish to reject and replace values of the dominant soc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27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and compromise with the dominant society, or withdraw from 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27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rate at meso level when they continue over time, or micro-level when short-live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MS PGothic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533520" y="16761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cr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tional 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omprised of common values and beliefs that tie citizens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ects the everyday lives of all citizens to some ex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may be less influential than subcul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cr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lobaliz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process whereby the entire world is becoming more interdependent, integrated, and 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ization or Westerniz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lobal 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fers to behavioral standards, symbols, values, and material objects that have become common across the gl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500960" cy="48006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ety, Culture, &amp; Our Social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53352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ies are composed of struc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s we 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we belong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ions we participate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Society: The Hardwa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6091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 Lev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how we learn to share meanings of symbols, the basic elements of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ness” comes from our ability to influence each other using symbols with shared understa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 society, we use symbols to define what is real, normal, and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al The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3316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 and Macro Leve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9160" indent="-1191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Functiona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is composed of interdependent parts, each fulfilling a necessary fun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unction of cultural norms, values, and beliefs is to hold the group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 sometimes norms, values, and beliefs are dysfunctional for individuals or groups within a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al The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so and Macro 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is composed of conflicting groups, each trying to protect its own self-interests and to make its own culture domin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inant groups may impose their cultural beliefs on minorities and other groups, laying the groundwork for confl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dominant groups may manipulate institutions so others learn beliefs &amp; values that justify their power, thus reducing conflict and securing their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2f2f2"/>
                </a:solidFill>
                <a:latin typeface="Calibri"/>
              </a:rPr>
              <a:t>Cultural Theories at the Meso and Macro-Level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ciety may be compatible with many types of culture, but there are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software doesn’t work with incompatible hard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transport U.S. culture to other parts of the world show that ideas such as individualism, democracy, and capitalism do not succeed in all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The Fit Between Hardware and Soft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simple, pre-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division of labor except by age, s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d together by common beliefs, values, and emotional 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800240" y="2209320"/>
            <a:ext cx="3962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c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, complex socie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ve division of labor, specialized task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d together by interdependence of specialized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838080" y="11430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ile Durkheim’s Types of Socie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Evolution of Socie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Evolution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77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ies vary in terms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sion of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dependence of 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cal adva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s and uses of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09480" y="12949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ter-gatherer soc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 by hunting, gathering available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madic, few material pos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oups (20-50 members), organized around ki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sion of labor only by gender, 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well-being of whol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ources regulated by complex systems of oblig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ding &amp; horticultural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ding societies: keep herds of domesticated animals for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ticultural societies: use primitive gardening and some animals for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i-nomadic, some material pos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group size (up to 3,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a food surplus, leading to material inequalities, status and power hierarch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ricultural societie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ise crops for food, using technological advances (e.g., plows, irrig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manent sett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of up to a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rth of feudal syste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od surpluses allow some to leave land, trade goods/services for f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ergence of social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ergence of meso-leve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ustrial soc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y on mechanized 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nsive division of labor based on experti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d material wealt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ge labor replaces feudal system; high inequality between owners and labor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concentrates in c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inship patterns change; smaller fami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ansion of meso-, macro-leve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change more rap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53:14Z</dcterms:created>
  <dc:creator>Deborah J Barr</dc:creator>
  <dc:description/>
  <dc:language>en-US</dc:language>
  <cp:lastModifiedBy>nmainardi</cp:lastModifiedBy>
  <dcterms:modified xsi:type="dcterms:W3CDTF">2015-06-01T18:23:08Z</dcterms:modified>
  <cp:revision>47</cp:revision>
  <dc:subject/>
  <dc:title>Chapter 3: Culture and Society: Hardware and Software of Our Social World</dc:title>
</cp:coreProperties>
</file>