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CFD88-95F3-4720-8A26-F78CCCB61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0C69B-D086-4E4C-81D1-8CA349A04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BD487-78A9-4AE7-8E20-99034438A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09025-DA26-473E-BEA4-C02B0CF00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8F985-3890-454C-ABE9-4A6566201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3495C-9BBC-4029-A81E-7BDDB69B4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263C0-07A0-4C9C-A5FE-FA44CCBA0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4D9C0-F2FC-4A3F-9B20-704EF5150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B41CD-8CD9-440C-9CE4-37D01A064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AA127-57A1-41EE-A180-FF85263CE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895C5-52A0-4C9C-88E3-8FAA4AF91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FA26C-89A0-461D-8965-1CC1D8ED0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1A6C5-B7A7-46B1-82B5-B6275726C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0BFBF-AA51-4834-B4CF-EBD226A0C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B007B-FF94-4F94-89B6-21CFE5F30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E0057-C7F8-477E-A11B-7861AB02F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408D3-56AA-4E06-AC52-CCA0AC46E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89317-DCF0-4E83-BB88-453B5E8B4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EFEB4-05C8-4D2E-BB87-64B7DFE39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604E3-616F-4B4B-ADDD-E9A5CB2DF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967F1-F278-42B9-9456-EDF523515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866CC-B95D-4BA2-A09C-54BB3F0F3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567D8-FB66-4090-9223-4A837A126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887A1-C4B2-46AB-ABE7-7FD2A6CE7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35B6B-2A52-4D79-AD2B-0DFADCE41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7743C-4BB2-4592-B7D1-A8BAA3F37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02727-A32B-44BD-B596-B0A05700D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ACDE6-163A-4170-82E0-51C0759C6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50252-A5DD-429B-AC53-78FEA520C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26D5F-6676-4D3E-B34F-A5717C015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F2A04-0845-41EC-82FB-9BA42EC1F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CE9B5-37C3-4450-A765-6A934E097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7E425-49DB-4B43-8114-87F2649A1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244A8-7BFF-44EC-9096-811B1E507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K:\SagePub\HigherEd\EdAcq\Books\Our Documents\EdAcq\Nicole Mainardi\PPTs\Gaby\BallantineCond4e\chaptersli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4800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dee8"/>
                </a:solidFill>
                <a:latin typeface="Calibri"/>
              </a:rPr>
              <a:t>Chapter 2 – Examining the Social World: How Do We Know?</a:t>
            </a:r>
            <a:br>
              <a:rPr sz="4800"/>
            </a:br>
            <a:endParaRPr b="0" lang="en-US" sz="4800" spc="-1" strike="noStrike">
              <a:solidFill>
                <a:srgbClr val="f2f2f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533520" y="12949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uctural-functional theor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or functional theor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 idea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part of society has a necessary fun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s fit together into a stable, orderly who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nctions may b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manifes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planned) or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aten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unintended); some things may b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dysfunct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 criticism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 claims are abstract, difficult to t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 easily explain social 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umes conflict is harmful, which isn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 always tr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umes stability is good, ignoring inequ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y theorists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te, Durkheim, Mer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  <a:ea typeface="Arial"/>
              </a:rPr>
              <a:t>Meso- and Macro-Level Theori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38088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flict the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 idea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equalities in resources and power create conflict, which underlies all social relatio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owerful impose their values and beliefs on weaker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nge leading to greater equality is desir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 criticism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glects the micro-lev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fficult to test empirical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not easily explain cohesion and coop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ts on assumption of self-inter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y theorists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x, DuBois, Dahrendorf, Cos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  <a:ea typeface="Arial"/>
              </a:rPr>
              <a:t>Meso- and Macro- Level Theori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minist sociological the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 idea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oted in conflict theory, symbolic interactionis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cial hierarchies disadvantage women and advantage m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ciology has traditionally been male dominated, resulting in an incomplete view of the worl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 criticism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ory should address the intersection of gender, race, class, and other inequal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  <a:ea typeface="Arial"/>
              </a:rPr>
              <a:t>Meso- and Macro- Level Theori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x Weber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 contribu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 id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erstehe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understanding): emphasized the importance of interpreting the meanings people give to their actions (micro-leve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cused on bureaucracy guided by rationality as key element of modern organizations (meso-leve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amined how history has been shaped by politics, economics, religion, psychology, and ideas (macro-leve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rotestant Ethic and the Spirit of Capitalis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nd explanation for how capitalists view the wor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  <a:ea typeface="Arial"/>
              </a:rPr>
              <a:t>Multi-Level Analysi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114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theory is right or wrong; each has advantages and disadvantages for studying particular levels or aspects of socie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0" y="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  <a:ea typeface="Arial"/>
              </a:rPr>
              <a:t>Using Different Theoretical Perspectiv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609480" y="2666880"/>
            <a:ext cx="80233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Ideas Underlying Science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3712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ow do we know?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iology uses scientific methods to expand knowledge of the social wor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ystematic use of theories and research methods makes sociology much more than guesswork or opin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Ideas Underlying Science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6840" y="12189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umptions of sci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is a real physical and social world that can be studied systematic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world is ordered by relations of cause and eff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best way to know the world is through empirical testing, based on observed fac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ngs that can’t be observed lie outside the scope of scientific inqui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ience should be objective, or based on evidence rather than opin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380520" y="13712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esearch proces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nning a research stu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igning the research plan and method for collecting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king sense of the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0" y="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  <a:ea typeface="Arial"/>
              </a:rPr>
              <a:t>How Sociologists Study the Social Worl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80880" y="129492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eps in planning a stud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9200" indent="-349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Define the problem clea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6400" indent="-342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question must be specific and prec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9200" indent="-349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Find out what is already known about top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6400" indent="-342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view existing theory and resear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9200" indent="-349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Formulate hypotheses and define vari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6400" indent="-342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ypothesis: educated guess about the relationship between two variables, which can be tes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6400" indent="-342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riable: concept that can vary in frequency of occurrence across persons, places, or 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6400" indent="-342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erationalizing a variable: linking the variable concept to a specific measur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  <a:ea typeface="Arial"/>
              </a:rPr>
              <a:t>Planning a Stud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80520" y="4114440"/>
            <a:ext cx="39625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ductive reasoning: moves from general theories to specific hypothe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11" descr=""/>
          <p:cNvPicPr/>
          <p:nvPr/>
        </p:nvPicPr>
        <p:blipFill>
          <a:blip r:embed="rId1"/>
          <a:stretch/>
        </p:blipFill>
        <p:spPr>
          <a:xfrm>
            <a:off x="272880" y="1295280"/>
            <a:ext cx="8609040" cy="25146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  <a:ea typeface="Arial"/>
              </a:rPr>
              <a:t>Planning a Study </a:t>
            </a:r>
            <a:r>
              <a:rPr b="0" lang="en-US" sz="2400" spc="-1" strike="noStrike">
                <a:solidFill>
                  <a:srgbClr val="f2f2f2"/>
                </a:solidFill>
                <a:latin typeface="Calibri"/>
                <a:ea typeface="Arial"/>
              </a:rPr>
              <a:t>(cont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5029200" y="4114800"/>
            <a:ext cx="3886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nductive reasoning: moves from specific facts (data) to more general theo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ial thought before sociology: strongly influenced by religion and philosoph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rn sociology arose in 1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entury Europe, influenced by several condi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lonialism: exposure to other cult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ustrial Revolution &amp; French Revolution: desire to know how dramatic change could be systematically explai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vances in the natural sciences: desire to apply scientific method to the social wor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2f2f2"/>
                </a:solidFill>
                <a:latin typeface="Calibri"/>
                <a:ea typeface="Arial"/>
              </a:rPr>
              <a:t>The Development of Sociolog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80880" y="12952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20600" indent="-1206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earch aims to find causal relationshi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ys that two variables can be relat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2221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rrelation: variables change toget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2221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usation: one variable causes another to 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06400" indent="-2286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ependent variable (IV): the cause of 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06400" indent="-2286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pendent variable (DV): the variable that chan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06400" indent="-2286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iming: change in IV must precede change in D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2221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urious relationship: IV and DV change together due to effects of a third variable; not a causal relation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06400" indent="-2286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 variables help eliminate effects not related to the hypothesis, especially spurious relationshi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1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  <a:ea typeface="Arial"/>
              </a:rPr>
              <a:t>Planning a Study </a:t>
            </a:r>
            <a:r>
              <a:rPr b="0" lang="en-US" sz="2400" spc="-1" strike="noStrike">
                <a:solidFill>
                  <a:srgbClr val="f2f2f2"/>
                </a:solidFill>
                <a:latin typeface="Calibri"/>
                <a:ea typeface="Arial"/>
              </a:rPr>
              <a:t>(cont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80520" y="12193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earch design i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mportant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value of a study depends upon the quality of its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earch methods depend upon the level of analysis of the research ques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mary sociological research method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rve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eld stu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d experi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isting sour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iangul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0" y="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  <a:ea typeface="Arial"/>
              </a:rPr>
              <a:t>Designing Research &amp; Collecting Dat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53352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vey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d to gather information from many people about how they think or what they wa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olves asking respondents a set of ques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views: questions asked by phone or in pers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estionnaire: questions and other types of item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estion typ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en-ended: respondents can say what they wis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osed-ended: respondents must choose from a set of predetermined answ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0" y="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  <a:ea typeface="Arial"/>
              </a:rPr>
              <a:t>Designing Research &amp; Collecting Dat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18284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vey methods: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side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views and open-ended questions yield in-depth information, but are time consuming and cost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estionnaires and closed-ended questions provide less information, but are cheaper and more practic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0" y="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  <a:ea typeface="Arial"/>
              </a:rPr>
              <a:t>Designing Research &amp; Collecting Dat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1142640"/>
            <a:ext cx="8305920" cy="51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eld studies (observational metho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9200" indent="-349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d to systematically observe and record interaction in the settings where it takes pl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9200" indent="-349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ypes of field stu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9160" indent="-285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n-participant observation: observation on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9160" indent="-285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icipant observation: researcher participates in and observes activities of group being studi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9160" indent="-285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thnography: researcher uses observation, interviews, self-reflection, and other techniques to pursue any data relevant to the research problem, which may evolve over the course of the stu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0" y="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  <a:ea typeface="Arial"/>
              </a:rPr>
              <a:t>Designing Research &amp; Collecting Dat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80520" y="1218960"/>
            <a:ext cx="8458200" cy="51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eld study: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side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9200" indent="-349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duces qualitative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916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alitative data: written or verbal observations, used to interpret the meaning of someth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916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antitative data: numerical, “hard” data, can be conveyed with percentages or tab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9200" indent="-349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ticipant observation: potential proble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916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earch effects: the group being studied may be altered by the presence of the researc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916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as: researcher may become so involved in the group that objectivity becomes difficul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0" y="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  <a:ea typeface="Arial"/>
              </a:rPr>
              <a:t>Designing Research &amp; Collecting Dat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6840" y="1218960"/>
            <a:ext cx="838188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trolled experime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sed as a powerful test of cause and eff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lements of a controlled experi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searchers manipulate an independent variable and determine its effects while all other variables are held consta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xperimental group: subjects who are exposed to the effects of the independent 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rol group: subjects not exposed to the independent 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fter the experimental group is exposed to the variable, the two groups are compared to determine its eff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nnot be used to study many sociological questions, research effects may result, and it is unethical to introduce many variables into the laborato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0" y="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  <a:ea typeface="Arial"/>
              </a:rPr>
              <a:t>Designing Research &amp; Collecting Dat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1295280"/>
            <a:ext cx="8305920" cy="51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rolled experiments: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side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valuable test, bu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’t be used for questions dealing with macro-level phenomenon that can’t be placed in a controlled situ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’t study questions involving independent variables that might cause harm to sub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earch effects: subjects may be affected by the fact that they are in a laboratory set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0" y="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  <a:ea typeface="Arial"/>
              </a:rPr>
              <a:t>Designing Research &amp; Collecting Dat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1143000"/>
            <a:ext cx="830592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isting 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isting data is used in new ways, especially if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 from past years is desi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udy concerns meso- or macro- level social patter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jor typ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ary analysis: employs data already collected for other studies or by agencies such as the Census Bureau or United N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ent analysis: systematic recording and classification of information from written or recorded sources, e.g. newspapers or let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0" y="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  <a:ea typeface="Arial"/>
              </a:rPr>
              <a:t>Designing Research &amp; Collecting Dat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129528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isting sources: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side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isting data sources may be inexpensive; research is unobtrusive and may be easy to 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tential problem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 may not represent the precise population the researcher wishes to stu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y problems with the original data will carry over into the secondary analy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 does not capture the “human side” of research questions as well as interview or observational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0" y="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  <a:ea typeface="Arial"/>
              </a:rPr>
              <a:t>Designing Research &amp; Collecting Dat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533520" y="12949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gust Comte &amp; the science of socie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ined the term “sociology” in 183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ought society’s problems could not be understood by philosophical or religious speculation; scientific knowledge was need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wo main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holds society together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social statics or structure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y is there change in society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social dynamics or proce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  <a:ea typeface="Arial"/>
              </a:rPr>
              <a:t>The Development of Sociolog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160" y="1371600"/>
            <a:ext cx="830556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iangulation (or multiple metho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ple methods of data collection are used to increase the amount of data and the accuracy of find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rvey methods, field study, experimentation, and existing sources may be used in various combin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0" y="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  <a:ea typeface="Arial"/>
              </a:rPr>
              <a:t>Designing Research &amp; Collecting Dat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mpling (all metho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mple: a small group of people who are systematically chosen to represent the larger population being studi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ypes of sampl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resentative: accurately reflects the population being studied, so findings can be generalized to the popu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ndom: every person in the population has an equal chance of being selected for the sample; the most common type of representative s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0" y="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  <a:ea typeface="Arial"/>
              </a:rPr>
              <a:t>Designing Research &amp; Collecting Dat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alyzing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goal is to determine relationships between the vari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riables must be cl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earcher must choose most effective tools for analyzing relationships among variab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cussion with and criticism from other researchers aids accuracy of analy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udy should be replicable, or capable of being repeated so results can be compa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0" y="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  <a:ea typeface="Arial"/>
              </a:rPr>
              <a:t>Designing Research &amp; Collecting Dat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7200" y="14475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rting conclu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researcher develops a report, includi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line of projec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 analysis, which may include tables or figures that summarize the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clusions: Are hypotheses supported by dat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pretations and recommend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social science no one study can definitively prove a hypothesis; instead, findings may tend to support or reject a hypothesi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0" y="0"/>
            <a:ext cx="8077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  <a:ea typeface="Arial"/>
              </a:rPr>
              <a:t>Analysis: Making Sense of the Dat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ciological research is bound by ethical codes which generally require that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earch subjects give informed consent to participate in stud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jects are not harmed or put at ris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jects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rivacy is not invaded unnecessari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jects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rivate information is protec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udy findings do not cause ha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uman Subjects Review Boards at universities and other research institutions help protect sub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  <a:ea typeface="Arial"/>
              </a:rPr>
              <a:t>Ethical Issues in Social Research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57200" y="13712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sic sociolog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professional or academic sociology): emphasis on scientific analysis, theory building, knowledge prod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plied sociolog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sociological practice): uses sociology to develop practical ways of improving society, often through poli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blic sociology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tempts to integrate sociology into communities in order to promote public debate and social ch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  <a:ea typeface="Arial"/>
              </a:rPr>
              <a:t>Putting Sociology to Work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TextBox 4"/>
          <p:cNvSpPr/>
          <p:nvPr/>
        </p:nvSpPr>
        <p:spPr>
          <a:xfrm>
            <a:off x="0" y="6367320"/>
            <a:ext cx="4267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Tahoma"/>
              </a:rPr>
              <a:t>© SAGE Publications, Inc. 2017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33520" y="12949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rly sociology after Com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cus on massive social and economic change brought by Industrial Revol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cus on relationship between micro-, meso-, and macro-level proc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rly sociological theorists: Emile Durkheim, Karl Marx, Harriet Martineau, Max Weber, W.E.B. DuBo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of scientific method to test id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  <a:ea typeface="Arial"/>
              </a:rPr>
              <a:t>The Development of Sociolog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6840" y="13712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cientific sociolog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ocuses on pure, objective analysis, modeled on natural sci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Humanistic sociolog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ocuses on the human capacity to create meaning, which can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 be captured by quantitative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ublic Sociology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ims to move the focus from classrooms and labs to commun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ciology centered on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mproving socie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pplied sociolog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ocuses on practical ways to bring about change in organizations or socie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  <a:ea typeface="Arial"/>
              </a:rPr>
              <a:t>Three Sociological Tradition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3712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eory &amp; research are interdependent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Theorie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re statements regarding how facts are related to each oth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ciological theories attempt to explain and make predictions about the social worl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researcher</a:t>
            </a:r>
            <a:r>
              <a:rPr b="0" lang="ja-JP" sz="26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 choice of theory and research method is guided by the research question and level of social analys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ories tell researchers what kinds of facts to look f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searchers use facts to test theor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  <a:ea typeface="Arial"/>
              </a:rPr>
              <a:t>Empirical Research &amp; Social Theor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6840" y="13712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oretical perspective: a basic view of society th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uides sociological research and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s an overall approach to understanding social behavior, social systems, and relationships between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be micro- or macro-level; all can be used at the meso-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0"/>
            <a:ext cx="8077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2f2f2"/>
                </a:solidFill>
                <a:latin typeface="Calibri"/>
              </a:rPr>
              <a:t>Sociology</a:t>
            </a:r>
            <a:r>
              <a:rPr b="0" lang="ja-JP" sz="3400" spc="-1" strike="noStrike">
                <a:solidFill>
                  <a:srgbClr val="f2f2f2"/>
                </a:solidFill>
                <a:latin typeface="Calibri"/>
              </a:rPr>
              <a:t>’</a:t>
            </a:r>
            <a:r>
              <a:rPr b="0" lang="en-US" sz="3400" spc="-1" strike="noStrike">
                <a:solidFill>
                  <a:srgbClr val="f2f2f2"/>
                </a:solidFill>
                <a:latin typeface="Calibri"/>
              </a:rPr>
              <a:t>s Major Theoretical Perspective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80880" y="1218960"/>
            <a:ext cx="83822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ymbolic interaction theory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or social construction, interpretative theory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in idea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eople interact on the basis of shared symbols to construct a meaningful world—which then serves as a basis for further interac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me emphasize agency, individuals</a:t>
            </a:r>
            <a:r>
              <a:rPr b="0" lang="ja-JP" sz="2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ctive role in constructing their social environments, or how their social positions shape their construc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in criticisms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eglects macro-structur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fficult to study concepts like </a:t>
            </a:r>
            <a:r>
              <a:rPr b="0" lang="ja-JP" sz="2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nd</a:t>
            </a:r>
            <a:r>
              <a:rPr b="0" lang="ja-JP" sz="2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ja-JP" sz="2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lf</a:t>
            </a:r>
            <a:r>
              <a:rPr b="0" lang="ja-JP" sz="22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Key theorists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eorge H. Mead, the Iowa Schoo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  <a:ea typeface="Arial"/>
              </a:rPr>
              <a:t>Micro-to-Meso Level Theori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tional choice theor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or exchange theor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 idea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ople act by making rational, self-interested decisions that will maximize their rewards and minimize co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 criticism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glects macro-level processes and micro-level, internal mental proce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not easily explain altruistic behavi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ople do not always act rationally or accurately assess their self-inter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  <a:ea typeface="Arial"/>
              </a:rPr>
              <a:t>Micro-to-Meso Level Theori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01:08:03Z</dcterms:created>
  <dc:creator>Deborah</dc:creator>
  <dc:description/>
  <dc:language>en-US</dc:language>
  <cp:lastModifiedBy>nmainardi</cp:lastModifiedBy>
  <dcterms:modified xsi:type="dcterms:W3CDTF">2015-06-01T18:00:55Z</dcterms:modified>
  <cp:revision>89</cp:revision>
  <dc:subject/>
  <dc:title>Chapter 2</dc:title>
</cp:coreProperties>
</file>