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ADFA-6B06-4940-808D-15FE91C0EE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795-80D5-4569-AC29-F9AEE881A65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AD9-3072-4B48-BE2B-ECEE27EBE4C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FD08-F771-4FE9-9DE0-C5C9A7CCE5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05B8-CB83-40CB-A9C7-B4E7F833300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2F88-6353-4C13-9390-C59F293AD41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B576-2CBD-4F80-B515-82556267F55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71D-A713-487C-A073-F66AEB6E18B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618-FB00-4809-AC9E-175E4597639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9AD-B11F-4ABC-875D-976846BDCB8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0D8-F046-44C7-A213-975700597E3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7CE-B21E-4E18-90DD-F935FA3FBB1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2976-62C2-4E96-820F-76A14A574EB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A40-B77D-45EB-8D01-27B9AB0FF65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0B4-A40D-4F60-8F71-1DB0603E1CD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548D-4FCC-4BD7-9C9F-1872F85222E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4A97-9D8B-41C2-B0DA-9337334C0BE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E1E-49E9-4A3E-A92F-12C9515EEB0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501-F7D8-4834-B129-1FC5BE84002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1BF-388E-40E1-AC53-200FDCDD137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282-7239-4B45-95D3-81E1EE60DCA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B58-83D5-48DE-BCCD-DCA7196DDDC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035-7B09-4D70-9573-5AF28BA98FC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2BB-4470-4F94-AF74-3D96900A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F6C-4776-4C0D-A32F-0389F15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18E-A908-416C-BB65-72B62FD8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0D4-B332-4FB6-A77C-49679D4A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588-6B01-441C-BDF9-814AD17A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EF4-839E-4943-8399-941B86BF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E95-420F-4C9D-8FD8-F29D92BD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AE9-C996-4436-854D-29950FA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D9C-28A8-470F-B123-0EBFA20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CDF-7F78-4C80-BD79-D03AFF7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2A6-AA6F-4643-90EC-BD432DB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A77-765D-4B1C-824B-3EB74F0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7B8E-21E6-4F26-AEBA-97F74BFD06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3cddd"/>
                </a:solidFill>
                <a:latin typeface="Calibri"/>
              </a:rPr>
              <a:t>Chapter 1 – Sociology: A Unique Way to View the World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ingredients in sociological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observe what is happening in the social world and can inform social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us to be more effective as we carry out our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 to understand and explain why it is happening (i.e. High School Dropou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practical rewards of sociological stud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f-awareness and self-improv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ter understanding of social situ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, systematic understanding of both domestic and global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ing of diverse cultural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ility to assess the impact of social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reciation of the complexities of social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ful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 how to change your environment and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ociologists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colleges and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, conduc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social service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interpersonal relations or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organizational needs or human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data for policy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ful skills honed in sociological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&amp; 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/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sitivity to diversity and global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ing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, problem-sol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analysis: size of the social groups being considered, from the smallest to the larg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sociology requires understanding multiple levels of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question: How do the levels connect or conflict with one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69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1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units: interconnected parts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ructure: a particular combination of social units that orders our l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institutions: provide the rules, roles, and relationships to meet human needs and guide human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society: a population of people living in a specified geographic area with a common political authority, many common ideas, and a social structure and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processe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 taken by people in social units.  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socialization: how we learn to be productive members of socie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onflict: occurs between individuals or groups over money, jobs, and other needed or desir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hange: every social unit is continually changing, and change in each unit affects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vironment: the setting that surrounds and influences each social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hysical, organizational, or technologic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unit has its own distinctive environment, to which it must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a social unit, we must consider not only the structure and processes within the unit, but also its interaction with the surroun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Social World: Levels of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can be studied at many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 (individuals and small grou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micro interactions form the basis of all social groups and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(intermediate size un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relations among institutions, organizations, and large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level (nations, global &amp; international tre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how larger social forces and global events shape everyday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evel adds depth to a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y is the Social World Importa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fundamentally social be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is not just outside us; we also carry it within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take social patterns for granted as routine, ordinary, and expec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socially shared expectations, life would be cha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nd the social world mutually influence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4"/>
          <p:cNvSpPr/>
          <p:nvPr/>
        </p:nvSpPr>
        <p:spPr>
          <a:xfrm>
            <a:off x="228600" y="1371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 of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29720" cy="35812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vel of analysis would you use to examine each of the following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couples divide housework responsi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factors determine the percentage of women in political power in a certain count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size of a school’s sports stadium matter for students who are choosing a colle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685800" y="192528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questions could be studied from any of the levels, or from a combination of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8960040" cy="1752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: the scientific study of social life, social change, and the social causes and consequences of human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ask questions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and how do people and groups interact with one ano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re different groups or societies organized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deal with conflict and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changes in one society affect other societ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sts study groups of all siz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ads (e.g., a romantic cou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e.g., a fami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(e.g., the auto indust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s (e.g., the U.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lobal society (the world as an interdependent ent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lying assumptions of soc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social by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live most of their lives in soci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between people and groups are reciprocal: each influences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eature recurrent social patterns, ordered behavior, shared expectations, and common understa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and change are natural and inev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 vs. Common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mmonly held beliefs are not actually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test ideas, including common sense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methods involve analyzing evidence in a way that is planned, objective, systematic, and repea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common sense ideas are challenged by scientific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ciological ima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d by C. Wright Mills as understanding individual problems to be rooted in broader social or public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dividual problems are rooted in soci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social factors influence layoff rates and personal experiences of unemploy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ve social factors shaped the causes and rates of divo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sociologists do and 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i="1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require philosophical or moral jud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can be studied objectively and scientif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sociologists may study a grou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religious beliefs, but they do not make judgments about whether the beliefs are right or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the social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tudy aspects of human behavior and social life, using the scientific method, but each has a different foc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anthropology: the culture or way of life of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ychology: individual behavior and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Science: government systems an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s: economic conditions and how people organize, produce, and distribute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: human interaction, groups, and social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nmainardi</cp:lastModifiedBy>
  <dcterms:modified xsi:type="dcterms:W3CDTF">2015-06-01T18:01:33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